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8D8-AE76-42EE-92B0-53C38D68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5D1-727C-41B1-92DF-1A49B5A5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D7A-CD6D-4302-A409-B471710F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39F-EB49-4700-ACC1-42868330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AD5-EA08-42DA-BE5D-702575D2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495-AE34-477C-96A6-538E0B00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605-4083-4410-BF4A-FA037577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CD8-CD50-4C72-A402-458A00E0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015-DB18-47CD-A674-04F3CCC2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DCC-6B8B-4672-8DE7-DC2F6028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30B-33BD-4DF8-B267-83BE502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731-EA23-4AC4-A419-30124691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D4F8-ED70-4793-8430-71C7D0BBE62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Managing Resourc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increasing pressure on the resources of the world because of the rapid population growth and economic development has meant that management of resources has become imperati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in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nite nature of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ossil fuel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has led to the development of alternative energy producing method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though not strictly a method of renewable energy, nuclear power was seen during the 1960's and 1970's as the perfect answer to the proble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cidents, such as Chernobyl, and the danger of radioactive leaks have meant that now other energy forms are being sough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ost commonly used one is hydroelectric power, whilst wind power, solar power and geothermal energy have all been successfully harnessed on a smaller sca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Can Be 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ervation of resour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vital part of manage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cludes natural resources such as areas of scenic beauty as well as the efficient use of things like minerals and for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ource substit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where easily re-usable materials are used rather than the original materia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es under the banner of conserv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Can Be 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yc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vitally important part of the management of natural re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lution Contr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ve been introduced to try to reduce emissions from the use of fossil fuels and other natural re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been heavily polluting other natural resources such as the atmosphere and the oceans, causing problems from a local to global sc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3:17:37Z</dcterms:created>
  <dc:creator>Dell_02</dc:creator>
  <dc:description/>
  <dc:language>en-US</dc:language>
  <cp:lastModifiedBy>Dell_02</cp:lastModifiedBy>
  <dcterms:modified xsi:type="dcterms:W3CDTF">2011-01-28T03:24:48Z</dcterms:modified>
  <cp:revision>1</cp:revision>
  <dc:subject/>
  <dc:title>Managing Resources</dc:title>
</cp:coreProperties>
</file>